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13.wmf" ContentType="image/x-wmf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22.jpeg" ContentType="image/jpeg"/>
  <Override PartName="/ppt/media/image15.wmf" ContentType="image/x-wmf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29.jpeg" ContentType="image/jpeg"/>
  <Override PartName="/ppt/media/image35.jpeg" ContentType="image/jpeg"/>
  <Override PartName="/ppt/media/image32.jpeg" ContentType="image/jpeg"/>
  <Override PartName="/ppt/media/image26.jpeg" ContentType="image/jpeg"/>
  <Override PartName="/ppt/media/image8.jpeg" ContentType="image/jpeg"/>
  <Override PartName="/ppt/media/image41.wmf" ContentType="image/x-wmf"/>
  <Override PartName="/ppt/media/image39.jpeg" ContentType="image/jpeg"/>
  <Override PartName="/ppt/media/image33.jpeg" ContentType="image/jpeg"/>
  <Override PartName="/ppt/media/image28.jpeg" ContentType="image/jpeg"/>
  <Override PartName="/ppt/media/image12.wmf" ContentType="image/x-wmf"/>
  <Override PartName="/ppt/media/image34.jpeg" ContentType="image/jpeg"/>
  <Override PartName="/ppt/media/image40.wmf" ContentType="image/x-wmf"/>
  <Override PartName="/ppt/media/image37.png" ContentType="image/png"/>
  <Override PartName="/ppt/media/image30.jpeg" ContentType="image/jpeg"/>
  <Override PartName="/ppt/media/image4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14.wmf" ContentType="image/x-wmf"/>
  <Override PartName="/ppt/media/image18.wmf" ContentType="image/x-wmf"/>
  <Override PartName="/ppt/media/image36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1E1B-7F7A-446E-BF26-1E0476654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nobelprize.org/nobel_prizes/physics/laureates/1956/index.html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most common BJT symbols (US IEEE Standar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BA9C-E957-4C27-86A2-0FE609A06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another stic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0A09-233D-4D66-B805-CACCB2FF2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eory does not fully account for the thin base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49F5-491D-483D-B1C3-A3A6A9A37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JT is a current controlled current sou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F803-99C3-4063-AC9A-A449E81B8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useful model of a BJ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9AF6-2323-48EF-99CA-B3BA561B9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ransistor (~1955) radio that I ever saw was made with Germanium Bipolar Transistors and amazed me as the previous portable radio we had had two batteries (High Voltage B+ and “D” cells for the tube filaments. I wish we hadn’t thrown it out when it stopped working after a couple of years as it would now be worth several thousand dollars as a museum piece.  Bipolar transistors first showed up in EE undergraduate curricula in the mid 196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ell Telephone Laboratory invention was awarded a Nobel Prize in Physics: John Bardeen and Walter Brattain received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e Nobel Prize in Physics, 1956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gether with William Shockley, "for their researches on semiconductors and their discovery of the transistor effect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8E95-2295-4243-A6D4-9BB3ADC78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instruments that show these curves on a CRT. (Curve trac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FF0D-9593-4439-819F-F28D41DEF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asing a bipolar transistor is easier than biasing a MOSF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FB77-4D74-4D67-B7A3-925FB44DE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s heavily used as the other two configurations, but has a high frequency advan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00F6-1A54-4116-A55C-D2FCD4543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feedback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mitter follower (common collector) is very useful (high input impedance and low output imped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70C9-4813-4BC8-A907-19B8B91E9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stick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6CCF-A147-4090-800D-810CEE7CF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wo diodes back to back with a narrow base region in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48DC-D121-4522-885E-E19EB679F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prefer to think of it as a base current controlled collector current sou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A187-DCB8-4869-8C27-FD789F535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is is normally implemented by doping regions on the surface of a silicon c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FCB6-B9DD-434D-B51D-3539CDF00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32742-98D8-4B74-8FC7-B7E982B6C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7DA41-4828-4D16-BA43-EAEE3F656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EBADD-6BB9-48CD-BF20-D8FD5AD33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150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78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2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150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78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545B8-0662-4526-89ED-FE43725F4E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D91C6-36B0-472E-9608-973C16F1B2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A8DAA-C239-4D8F-BFE7-3DA787948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056BB-3EAC-4C0E-A522-1A37AF3542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C3421-CF27-4DBD-AAD8-FEACC5997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3657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E74C6-DDF9-47C1-A057-FAD4ED229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2AA49-7B00-4D5F-9A3A-D7D197C8E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F2A18-9031-4199-9696-FCA0FBFB4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A61E0-42A9-4435-B9A6-D3F81F1E7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1"/>
          <p:cNvSpPr/>
          <p:nvPr/>
        </p:nvSpPr>
        <p:spPr>
          <a:xfrm>
            <a:off x="0" y="0"/>
            <a:ext cx="1371600" cy="1676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83" descr="other logo for powerpoint"/>
          <p:cNvPicPr/>
          <p:nvPr/>
        </p:nvPicPr>
        <p:blipFill>
          <a:blip r:embed="rId2"/>
          <a:stretch/>
        </p:blipFill>
        <p:spPr>
          <a:xfrm>
            <a:off x="1219320" y="2819520"/>
            <a:ext cx="212076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6"/>
          <p:cNvSpPr/>
          <p:nvPr/>
        </p:nvSpPr>
        <p:spPr>
          <a:xfrm>
            <a:off x="1371600" y="0"/>
            <a:ext cx="4114800" cy="167652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228240" y="61718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60EB-AFA8-4F48-9EB9-B58E4855F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13"/>
          <p:cNvSpPr/>
          <p:nvPr/>
        </p:nvSpPr>
        <p:spPr>
          <a:xfrm>
            <a:off x="1371600" y="1600200"/>
            <a:ext cx="4114800" cy="30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93"/>
          <p:cNvSpPr/>
          <p:nvPr/>
        </p:nvSpPr>
        <p:spPr>
          <a:xfrm>
            <a:off x="0" y="1600200"/>
            <a:ext cx="13716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94" descr="oxford logo4"/>
          <p:cNvPicPr/>
          <p:nvPr/>
        </p:nvPicPr>
        <p:blipFill>
          <a:blip r:embed="rId3"/>
          <a:stretch/>
        </p:blipFill>
        <p:spPr>
          <a:xfrm>
            <a:off x="103320" y="152280"/>
            <a:ext cx="506160" cy="12956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95" descr="book cover2"/>
          <p:cNvPicPr/>
          <p:nvPr/>
        </p:nvPicPr>
        <p:blipFill>
          <a:blip r:embed="rId4"/>
          <a:stretch/>
        </p:blipFill>
        <p:spPr>
          <a:xfrm>
            <a:off x="914400" y="2286000"/>
            <a:ext cx="2797200" cy="36939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96"/>
          <p:cNvSpPr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Calibri"/>
              </a:rPr>
              <a:t>Chapter #6: </a:t>
            </a:r>
            <a:r>
              <a:rPr b="0" lang="en-US" sz="5400" spc="-1" strike="noStrike">
                <a:solidFill>
                  <a:srgbClr val="3333ff"/>
                </a:solidFill>
                <a:latin typeface="Calibri"/>
              </a:rPr>
              <a:t>Bipolar Junction Transistors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5238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croelectronic Circui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Sedra and Sm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ford Publi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1.2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peration of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pn-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istor in the Active Mod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3505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ve mode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“most important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external voltage sourc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required for biasing to achieve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er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gure 6.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se06F03"/>
          <p:cNvPicPr/>
          <p:nvPr/>
        </p:nvPicPr>
        <p:blipFill>
          <a:blip r:embed="rId1"/>
          <a:stretch/>
        </p:blipFill>
        <p:spPr>
          <a:xfrm>
            <a:off x="3733920" y="2133720"/>
            <a:ext cx="5257800" cy="2963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152280" y="5715000"/>
            <a:ext cx="8763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3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rrent flow in a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p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istor biased to operate in the active mode. (Reverse current components due to drift of thermally generated minority carriers are not shown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rrent Flo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bias on emitter-base junction will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use current to fl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current ha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compone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lectr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jected from emitter into 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ol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jected from base into e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will be shown th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rst (of the two above) is desir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achieved wit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eavy doping of emit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light doping of b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rrent Flo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emitter curr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– is current whic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lows across EBJ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ws “out” of emitter l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minority carri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type reg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electrons will b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jected from emit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to b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posite dir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base is thin, concentration of excess minority carriers within i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ill exhibit constant gradi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2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se06F04"/>
          <p:cNvPicPr/>
          <p:nvPr/>
        </p:nvPicPr>
        <p:blipFill>
          <a:blip r:embed="rId1"/>
          <a:stretch/>
        </p:blipFill>
        <p:spPr>
          <a:xfrm>
            <a:off x="795240" y="1846440"/>
            <a:ext cx="7358040" cy="4173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6"/>
          <p:cNvPicPr/>
          <p:nvPr/>
        </p:nvPicPr>
        <p:blipFill>
          <a:blip r:embed="rId2"/>
          <a:stretch/>
        </p:blipFill>
        <p:spPr>
          <a:xfrm>
            <a:off x="220680" y="6232680"/>
            <a:ext cx="8618400" cy="625320"/>
          </a:xfrm>
          <a:prstGeom prst="rect">
            <a:avLst/>
          </a:prstGeom>
          <a:ln w="0">
            <a:noFill/>
          </a:ln>
        </p:spPr>
      </p:pic>
      <p:sp>
        <p:nvSpPr>
          <p:cNvPr id="99" name="Line 7"/>
          <p:cNvSpPr/>
          <p:nvPr/>
        </p:nvSpPr>
        <p:spPr>
          <a:xfrm flipH="1">
            <a:off x="4419360" y="609480"/>
            <a:ext cx="2971800" cy="32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791320" y="130320"/>
            <a:ext cx="320040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traight line represents constant gradi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Object 8"/>
          <p:cNvGraphicFramePr/>
          <p:nvPr/>
        </p:nvGraphicFramePr>
        <p:xfrm>
          <a:off x="123840" y="127080"/>
          <a:ext cx="5667480" cy="12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840" y="127080"/>
                    <a:ext cx="56674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Line 10"/>
          <p:cNvSpPr/>
          <p:nvPr/>
        </p:nvSpPr>
        <p:spPr>
          <a:xfrm>
            <a:off x="2971800" y="1371600"/>
            <a:ext cx="0" cy="2590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rrent Flo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ntration of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inority carrier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at boundary EB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defined by (6.1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ntration of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inority carriers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at boundary of CB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z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uses these electrons to be swept across j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4800600" y="2971800"/>
          <a:ext cx="3930480" cy="18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971800"/>
                    <a:ext cx="3930480" cy="18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rrent Flo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648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apered minority-carr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centration profile exis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caus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lectrons injected into base to diff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rough base toward coll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such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lectron diffusion 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exis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4952880" y="2441520"/>
          <a:ext cx="3838680" cy="36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441520"/>
                    <a:ext cx="3838680" cy="36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rrent Flo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“diffusing” electron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ill combine with hol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majority carriers in bas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is thin, however, a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combination is minim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mbination does, however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use gradient to take slightly curved sha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raight line is assum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2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6" descr="se06F04"/>
          <p:cNvPicPr/>
          <p:nvPr/>
        </p:nvPicPr>
        <p:blipFill>
          <a:blip r:embed="rId1"/>
          <a:stretch/>
        </p:blipFill>
        <p:spPr>
          <a:xfrm>
            <a:off x="795240" y="1846440"/>
            <a:ext cx="7358040" cy="4173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6"/>
          <p:cNvPicPr/>
          <p:nvPr/>
        </p:nvPicPr>
        <p:blipFill>
          <a:blip r:embed="rId2"/>
          <a:stretch/>
        </p:blipFill>
        <p:spPr>
          <a:xfrm>
            <a:off x="220680" y="6232680"/>
            <a:ext cx="861840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Object 7"/>
          <p:cNvGraphicFramePr/>
          <p:nvPr/>
        </p:nvGraphicFramePr>
        <p:xfrm>
          <a:off x="123840" y="127080"/>
          <a:ext cx="5667480" cy="12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840" y="127080"/>
                    <a:ext cx="56674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Line 9"/>
          <p:cNvSpPr/>
          <p:nvPr/>
        </p:nvSpPr>
        <p:spPr>
          <a:xfrm>
            <a:off x="3352680" y="3276720"/>
            <a:ext cx="2514600" cy="1676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3352680" y="3276720"/>
            <a:ext cx="2514600" cy="16761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5"/>
          <p:cNvSpPr/>
          <p:nvPr/>
        </p:nvSpPr>
        <p:spPr>
          <a:xfrm flipH="1">
            <a:off x="4495680" y="609480"/>
            <a:ext cx="2895840" cy="358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791320" y="130320"/>
            <a:ext cx="320040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ecombination causes actual gradient to be curved, not straigh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Collector Curren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2674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observed that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ost diffusing electrons will reach boundary of collector-ba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pletion reg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cause collector is more positive than base, thes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electrons are swept into colle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collector curr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3333ff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3333ff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3333ff"/>
                </a:solidFill>
                <a:latin typeface="Calibri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approximately equal t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4670280" y="2232000"/>
          <a:ext cx="416880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0280" y="2232000"/>
                    <a:ext cx="416880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Collector Curren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itude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s independent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CB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long as collector is positive, with respect to b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aturation current 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3333ff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s inversely proportional t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directly proportional to area of EB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ically betwee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alibri"/>
              </a:rPr>
              <a:t>-1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nd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alibri"/>
              </a:rPr>
              <a:t>-18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referred to as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cale 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THIS CHAPTER YOU WILL LEA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hysical structu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bipolar transistor and how it wor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he voltage between two terminals of the transistor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ontrols the current that flows through the third termin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the equations that describe these current-voltage relationshi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o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nalyze and design circui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at contain bipolar transistors, resistors, and dc sour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he transistor can be used to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ake an amplifi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Base Curren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base current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3333ff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3333ff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composed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compone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due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oles injected from ba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gion into e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due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oles that have to be supplied by external circu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replace those recombin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5438880" y="2492280"/>
          <a:ext cx="317160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8880" y="2492280"/>
                    <a:ext cx="317160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Base Curren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mmon-emitter current gain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s influenced b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facto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dth of base regio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ve doping of base emitter region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 Value of </a:t>
            </a:r>
            <a:r>
              <a:rPr b="0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in ba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smal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nano-met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ightly doped base / heavily doped emit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smal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3581280" y="0"/>
            <a:ext cx="5562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Emitt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3353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ll 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ich enters transistor must le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+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ations (6.7) through (6.13) expand upon this id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3809880" y="1219320"/>
          <a:ext cx="5146920" cy="54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219320"/>
                    <a:ext cx="5146920" cy="54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capitulation and Equivalent-Circuit Mode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ious slides presen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rst-order BJT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s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np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ransistor in active mo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ic relationship is collector curren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lated exponential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forward-bias voltag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remains independent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CB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s long as this junction remains reverse bia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gt;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6" descr="se06F05"/>
          <p:cNvPicPr/>
          <p:nvPr/>
        </p:nvPicPr>
        <p:blipFill>
          <a:blip r:embed="rId1"/>
          <a:stretch/>
        </p:blipFill>
        <p:spPr>
          <a:xfrm>
            <a:off x="1295280" y="228600"/>
            <a:ext cx="6477120" cy="56134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"/>
          <p:cNvSpPr/>
          <p:nvPr/>
        </p:nvSpPr>
        <p:spPr>
          <a:xfrm>
            <a:off x="204840" y="5943600"/>
            <a:ext cx="871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rge-signal equivalent-circuit models of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p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JT operating in the forward active mo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6.1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er to textbook for Example 6.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1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tructure of Actual Transisto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6.7 shows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re realistic BJT cross-s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o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irtually surroun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tire emitter reg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makes it difficult for electrons injected into base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scape coll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ice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t symmetri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such, emitter and collecto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nnot be interchang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ice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ni-directio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6" descr="se06F07"/>
          <p:cNvPicPr/>
          <p:nvPr/>
        </p:nvPicPr>
        <p:blipFill>
          <a:blip r:embed="rId1"/>
          <a:stretch/>
        </p:blipFill>
        <p:spPr>
          <a:xfrm>
            <a:off x="404640" y="1986120"/>
            <a:ext cx="8282160" cy="31194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2435760" y="5334120"/>
            <a:ext cx="422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7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-section of a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p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J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1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tion in Saturation Mod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BJT to operate in active mode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BJ must be reverse bia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fo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mall values of forward-bi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junction does not operate effectiv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such, active mode operation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p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transistor may b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intained for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CB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down to approximately -0.4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fter this po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ll “diode” begin to really condu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1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tion in Saturation Mod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Object 4"/>
          <p:cNvGraphicFramePr/>
          <p:nvPr/>
        </p:nvGraphicFramePr>
        <p:xfrm>
          <a:off x="762120" y="685800"/>
          <a:ext cx="7642080" cy="575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85800"/>
                    <a:ext cx="764208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THIS CHAPTER YOU WILL LEA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o obtain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inear amplific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the fundamentally nonlinear BJ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ree basic ways for connecting a BJ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be able to construct amplifiers with different proper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ractical circui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bipolar-transistor amplifiers that can be constructed by using discrete compon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1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tion in Saturation Mod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questions must be asked to determine wheth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JT is in saturation mode, or no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CBJ forward-biased b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re than 0.4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ratio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less than </a:t>
            </a:r>
            <a:r>
              <a:rPr b="0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1.5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np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ransisto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6" descr="se06F10"/>
          <p:cNvPicPr/>
          <p:nvPr/>
        </p:nvPicPr>
        <p:blipFill>
          <a:blip r:embed="rId1"/>
          <a:stretch/>
        </p:blipFill>
        <p:spPr>
          <a:xfrm>
            <a:off x="990720" y="2065320"/>
            <a:ext cx="7086600" cy="40305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4"/>
          <p:cNvSpPr/>
          <p:nvPr/>
        </p:nvSpPr>
        <p:spPr>
          <a:xfrm>
            <a:off x="241200" y="6172200"/>
            <a:ext cx="8638920" cy="398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10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rrent flow in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n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istor biased to operate in the active mo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1.5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np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ransisto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06280" y="3870360"/>
            <a:ext cx="482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11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large-signal models for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n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istor operating in the active mo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6" descr="se06F11"/>
          <p:cNvPicPr/>
          <p:nvPr/>
        </p:nvPicPr>
        <p:blipFill>
          <a:blip r:embed="rId1"/>
          <a:stretch/>
        </p:blipFill>
        <p:spPr>
          <a:xfrm>
            <a:off x="5278320" y="228600"/>
            <a:ext cx="3713400" cy="640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228600" y="2057400"/>
            <a:ext cx="40384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Current-Voltage Characteristic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6" descr="se06F12"/>
          <p:cNvPicPr/>
          <p:nvPr/>
        </p:nvPicPr>
        <p:blipFill>
          <a:blip r:embed="rId1"/>
          <a:stretch/>
        </p:blipFill>
        <p:spPr>
          <a:xfrm>
            <a:off x="2057400" y="2317680"/>
            <a:ext cx="5006880" cy="37022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304920" y="6248520"/>
            <a:ext cx="8534160" cy="398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12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rcuit symbols for BJ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228600" y="2209680"/>
            <a:ext cx="419112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2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Circuit Symbols and Convention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se06F13"/>
          <p:cNvPicPr/>
          <p:nvPr/>
        </p:nvPicPr>
        <p:blipFill>
          <a:blip r:embed="rId1"/>
          <a:stretch/>
        </p:blipFill>
        <p:spPr>
          <a:xfrm>
            <a:off x="1630440" y="2214720"/>
            <a:ext cx="5881680" cy="35002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"/>
          <p:cNvSpPr/>
          <p:nvPr/>
        </p:nvSpPr>
        <p:spPr>
          <a:xfrm>
            <a:off x="228600" y="5867280"/>
            <a:ext cx="8686800" cy="703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13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oltage polarities and current flow in transistors biased in the active mo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228600" y="2209680"/>
            <a:ext cx="419112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2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Circuit Symbols and Convention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228600" y="2198520"/>
            <a:ext cx="8686800" cy="435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Collector-Base Reverse Curre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C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iously, small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verse current was igno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carried b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rmally-generated minor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rri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it do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eser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be addres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llector-base junction current 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3333ff"/>
                </a:solidFill>
                <a:latin typeface="Calibri"/>
              </a:rPr>
              <a:t>CBO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normally in the nano-ampere ran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ny times high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n its theoretically-predicted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2.2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aphical Representation of Transistor Characteristic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7" descr="se06F15"/>
          <p:cNvPicPr/>
          <p:nvPr/>
        </p:nvPicPr>
        <p:blipFill>
          <a:blip r:embed="rId1"/>
          <a:stretch/>
        </p:blipFill>
        <p:spPr>
          <a:xfrm>
            <a:off x="0" y="2208240"/>
            <a:ext cx="4341960" cy="3278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3" descr="se06F16"/>
          <p:cNvPicPr/>
          <p:nvPr/>
        </p:nvPicPr>
        <p:blipFill>
          <a:blip r:embed="rId2"/>
          <a:stretch/>
        </p:blipFill>
        <p:spPr>
          <a:xfrm>
            <a:off x="4573440" y="2066760"/>
            <a:ext cx="4341960" cy="334332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228600" y="5562720"/>
            <a:ext cx="8686800" cy="10922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15/16: (left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B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haracteristic for an npn transistor.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right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ffect of temperature on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B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haracteristic.  Voltage polarities and current flow in transistors biased in the active mo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2.3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Dependence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n Collector Voltage – The Early Effec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3505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operated in active region, practical BJT’s show som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ependence of collector current on collector volt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such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aracteristic i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 “straight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5" descr="se06F17"/>
          <p:cNvPicPr/>
          <p:nvPr/>
        </p:nvPicPr>
        <p:blipFill>
          <a:blip r:embed="rId1"/>
          <a:stretch/>
        </p:blipFill>
        <p:spPr>
          <a:xfrm>
            <a:off x="3809880" y="2438280"/>
            <a:ext cx="5040360" cy="305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6"/>
          <p:cNvPicPr/>
          <p:nvPr/>
        </p:nvPicPr>
        <p:blipFill>
          <a:blip r:embed="rId2"/>
          <a:stretch/>
        </p:blipFill>
        <p:spPr>
          <a:xfrm>
            <a:off x="76320" y="6026040"/>
            <a:ext cx="9067680" cy="67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4" descr="se06F18"/>
          <p:cNvPicPr/>
          <p:nvPr/>
        </p:nvPicPr>
        <p:blipFill>
          <a:blip r:embed="rId1"/>
          <a:stretch/>
        </p:blipFill>
        <p:spPr>
          <a:xfrm>
            <a:off x="228600" y="2286000"/>
            <a:ext cx="8686800" cy="28177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228600" y="5638680"/>
            <a:ext cx="86104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18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rge-signal equivalent-circuit models of a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p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JT operating in the active mode in the common-emitter configuration with the output resistanc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chapter examines anoth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ree-terminal dev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bipolar junction transi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tation of this material mirror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hapter 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JT wa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vented in 194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 Bell Telephone Laborato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hered in a new era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olid-state circu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wa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placed by MOSF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predominant transistor used in modern electron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2.4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 Alternative Form of the Common-Emitter Characteristic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Common-Emitter Current G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econd way to quantify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changing base current b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measuing incrementa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Saturation Voltag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C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sa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nd Saturation Re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228600" y="563868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19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-emitter characteristics.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Basic CE circuit; note that in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the horizontal scale is expanded around the origin to show the saturation region in some detail. A much greater expansion of the saturation region is shown in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4" descr="se06F19"/>
          <p:cNvPicPr/>
          <p:nvPr/>
        </p:nvPicPr>
        <p:blipFill>
          <a:blip r:embed="rId1"/>
          <a:stretch/>
        </p:blipFill>
        <p:spPr>
          <a:xfrm>
            <a:off x="2819520" y="152280"/>
            <a:ext cx="3476520" cy="5446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28600" y="62326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20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implified equivalent-circuit model of the saturated transis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4" descr="se06F20"/>
          <p:cNvPicPr/>
          <p:nvPr/>
        </p:nvPicPr>
        <p:blipFill>
          <a:blip r:embed="rId1"/>
          <a:stretch/>
        </p:blipFill>
        <p:spPr>
          <a:xfrm>
            <a:off x="1523880" y="1447920"/>
            <a:ext cx="6324840" cy="4052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0" y="1981080"/>
            <a:ext cx="45720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3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BJT Circuits at DC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1863720" y="2209680"/>
            <a:ext cx="5375160" cy="432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4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pplying the BJT in Amplifier Design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763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the configuration presented in Chapter 5, an amplifier may be designed b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ransistor and series resis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it is necessary to model the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voltage transfer characteristic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(VTC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ation (6.2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priate biasing is important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nsure linear g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appropriate input voltage sw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-signal model is employed to model the amp’s ope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9" descr="6"/>
          <p:cNvPicPr/>
          <p:nvPr/>
        </p:nvPicPr>
        <p:blipFill>
          <a:blip r:embed="rId1"/>
          <a:stretch/>
        </p:blipFill>
        <p:spPr>
          <a:xfrm>
            <a:off x="76320" y="4464000"/>
            <a:ext cx="8839080" cy="1708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se06F31"/>
          <p:cNvPicPr/>
          <p:nvPr/>
        </p:nvPicPr>
        <p:blipFill>
          <a:blip r:embed="rId2"/>
          <a:stretch/>
        </p:blipFill>
        <p:spPr>
          <a:xfrm>
            <a:off x="228600" y="1311120"/>
            <a:ext cx="8610480" cy="417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4" descr="se06F32"/>
          <p:cNvPicPr/>
          <p:nvPr/>
        </p:nvPicPr>
        <p:blipFill>
          <a:blip r:embed="rId1"/>
          <a:stretch/>
        </p:blipFill>
        <p:spPr>
          <a:xfrm>
            <a:off x="228600" y="1252440"/>
            <a:ext cx="8686800" cy="423396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"/>
          <p:cNvSpPr/>
          <p:nvPr/>
        </p:nvSpPr>
        <p:spPr>
          <a:xfrm>
            <a:off x="228600" y="5943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32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asing the BJT amplifier at a point Q located on the active-mode segment of the V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9" descr="6"/>
          <p:cNvPicPr/>
          <p:nvPr/>
        </p:nvPicPr>
        <p:blipFill>
          <a:blip r:embed="rId1"/>
          <a:stretch/>
        </p:blipFill>
        <p:spPr>
          <a:xfrm>
            <a:off x="174600" y="5975280"/>
            <a:ext cx="8740800" cy="738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se06F33"/>
          <p:cNvPicPr/>
          <p:nvPr/>
        </p:nvPicPr>
        <p:blipFill>
          <a:blip r:embed="rId2"/>
          <a:stretch/>
        </p:blipFill>
        <p:spPr>
          <a:xfrm>
            <a:off x="685800" y="228600"/>
            <a:ext cx="7772400" cy="578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6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Basic BJT Amplifier Configuration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 rot="60000">
            <a:off x="4915080" y="228240"/>
            <a:ext cx="4000320" cy="640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0" y="2057400"/>
            <a:ext cx="44956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6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ree-Basic Configuration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4" descr="se06F48"/>
          <p:cNvPicPr/>
          <p:nvPr/>
        </p:nvPicPr>
        <p:blipFill>
          <a:blip r:embed="rId1"/>
          <a:stretch/>
        </p:blipFill>
        <p:spPr>
          <a:xfrm>
            <a:off x="2362320" y="2057400"/>
            <a:ext cx="4341600" cy="38336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"/>
          <p:cNvSpPr/>
          <p:nvPr/>
        </p:nvSpPr>
        <p:spPr>
          <a:xfrm>
            <a:off x="228600" y="60199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48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hree basic configurations of BJT amplifier. The biasing arrangements are not show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evice Structure and Physical Oper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6.1. show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implified struct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BJ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sts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ree semiconductor reg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emit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gion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typ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gion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typ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llec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gion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typ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 described above is referred to a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p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ypes do ex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6.3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Common-Emitter (CE) Amplifi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ree configurations, 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E amplifier is most widely us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gure 6.50(a) shows a common-emitter amplifier – with biasing arrangement omit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ignal course 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sig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ource resistance 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sig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put resistance 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ain 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vo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output resistance 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ransconductance 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on-Emitter Amplifi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7" descr="se06F50"/>
          <p:cNvPicPr/>
          <p:nvPr/>
        </p:nvPicPr>
        <p:blipFill>
          <a:blip r:embed="rId1"/>
          <a:stretch/>
        </p:blipFill>
        <p:spPr>
          <a:xfrm>
            <a:off x="152280" y="2057400"/>
            <a:ext cx="6629400" cy="46767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5181480" y="228600"/>
            <a:ext cx="373392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50: (a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-Emitter Amplifier fed with a signal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si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m a generator with a resistanc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si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 common-emitter amplifier circuit with the BJT replaced with its hybrid-pi mod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0" y="1981080"/>
            <a:ext cx="91440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acteristic Parameters of the CE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2590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ing BJT with hybrid-pi model yields the expressions to right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2971800" y="2157480"/>
          <a:ext cx="6068880" cy="41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157480"/>
                    <a:ext cx="6068880" cy="41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acteristic Parameters of the CE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ree Observ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put resistanc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derate to l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utput resistanc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derate to hig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pen-circuit voltage gain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vo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 can be hig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making the CE configuration the workhorse in BJT amplifier desig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verall Voltage Gai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5" name="Object 4"/>
          <p:cNvGraphicFramePr/>
          <p:nvPr/>
        </p:nvGraphicFramePr>
        <p:xfrm>
          <a:off x="222120" y="2230560"/>
          <a:ext cx="8693280" cy="38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2230560"/>
                    <a:ext cx="8693280" cy="38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35816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6.5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Common-Base (CB) Amplifi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371808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53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CB amplifier with bias details omitted;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Amplifier equivalent circuit with the BJT represented by its T Mod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4" descr="se06F53"/>
          <p:cNvPicPr/>
          <p:nvPr/>
        </p:nvPicPr>
        <p:blipFill>
          <a:blip r:embed="rId1"/>
          <a:stretch/>
        </p:blipFill>
        <p:spPr>
          <a:xfrm>
            <a:off x="4890960" y="228600"/>
            <a:ext cx="4024440" cy="632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6.7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Summary and Comparison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e CE configuration is one of the best suited for realizing the bulk of the gain required in an amplifier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Depending on the magnitude of the gain required, either a single stage o a cascade of two or three stages may be us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ing a resistor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in the emitter lea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CE stage provides a number of performance improvements at the expense of gain redu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ow input resistance of the CB amplifi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kes it useful only in specific applic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emitter follower finds application as a voltage buff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connecting a high resistance source to a low-resistance lo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686800" cy="646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ending on the bias condition on its two junctions, the BJT can operate in one of three possible mo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ut-of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both junctions reverse bias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tiv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he EBJ forward-biased and CBJ revers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both junctions forward bias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amplifier applications, the BJT is operated in the active mode.  Switching applications make use of the cutoff and saturation m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JT operating in the active mode provides a collector curren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}.  The base curren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emitter curren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ensure operation in the active mode, the collector voltage of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p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transistor must be kept higher than approximately 0.4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low the base voltage.  For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n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transistor, the collector voltage must be lower than approximately 0.4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ove the base voltage.  Otherwise, the CBJ becomes forward-biased and the transistor will enter satu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a constant collector current, the magnitude of the base emitter voltage decreases by about 2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every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 rise in temperat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JT will be at the edge of saturation when |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| is reduced to about 0.3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1.1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mplified Structure and Modes of Oper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istor consists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p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-junc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emitter-ba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junction (EBJ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llector-ba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junction (CBJ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ing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pends on bias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activ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 – used for ampl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utof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atu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odes – used for switch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active mode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hows a slight dependence o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This phenomenon, known as the Early Effect, is modeled by ascribing a finite output resistance to the BJT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|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|/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er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Early Voltage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dc collector current without the Early Effect taken into acc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c analysis of transistor circuits is generally simplified by assuming |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| = 0.7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operate as a linear amplifier, the BJT is biased in the active region and the signal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kept small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lt;&lt;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as design seeks to establish a dc collector current that is as independent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s possi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mall signals, the BJT functions as a linear voltage-controlled current source with transconductanc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The input resistance between base and emitter, looking into the base, i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The input resistance between bae and emitter, looking into the emitter i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1/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basic BJT amplifier configurations are shown in Figure 6.48.  A summary of their characteristic parameters is provided in Table 6.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1676160" y="5546880"/>
            <a:ext cx="580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1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implified structure of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p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is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6" descr="se06F01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332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676160" y="5486400"/>
            <a:ext cx="580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2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implified structure of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n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is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se06F02"/>
          <p:cNvPicPr/>
          <p:nvPr/>
        </p:nvPicPr>
        <p:blipFill>
          <a:blip r:embed="rId1"/>
          <a:stretch/>
        </p:blipFill>
        <p:spPr>
          <a:xfrm>
            <a:off x="152280" y="2152800"/>
            <a:ext cx="8593200" cy="302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686800" cy="206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2:06:37Z</dcterms:created>
  <dc:creator>deese</dc:creator>
  <dc:description/>
  <dc:language>en-US</dc:language>
  <cp:lastModifiedBy>Jeffrey N. Denenberg</cp:lastModifiedBy>
  <dcterms:modified xsi:type="dcterms:W3CDTF">2013-05-30T19:22:04Z</dcterms:modified>
  <cp:revision>398</cp:revision>
  <dc:subject/>
  <dc:title>Slide 1</dc:title>
</cp:coreProperties>
</file>